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5690-4593-4F5F-B343-5227591CC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D2A1-3F5F-432B-8BEA-39FC0B529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A46F-1442-4956-A158-9DD143308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A48A-BEB4-4EF3-BC63-7FB4DE7FB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706577-050F-4E70-8350-191EEFDF9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51DC7D-AD9D-4870-B42F-8A82C123C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48C910-88A6-43FD-8826-F07A6F9AA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A8FE6B-9926-437D-952C-5458FCE20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545AF4-C5CC-4D9D-A1B1-06A5A3F1B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F23C2D-E490-4E79-9D36-1E26CC774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904D73-1B69-498A-B21A-F2DE39299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EDEC-AF25-4D72-A74B-D2335F8D6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BCC47C-DCE3-43A9-A079-5C7CB0CB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A109DA-57EA-4A0E-96D8-F3001F7C4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9D0BCF-D690-4489-95EB-204BB9F39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27FBCA-8154-4E48-AEED-575EF5BF6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7EC53F-4C01-45A1-B41C-068095E99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7E0C-1623-400A-A3AB-78EBC6B1E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29F5-232C-4EA5-A3E2-292C7E0D5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F07A-0A34-475E-B338-C30A841CA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48FF-CD3B-43C1-B648-F7B0EE054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B09E-23CB-4A97-B679-EF25E39AD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1B16-3E91-41CA-8A59-F6B164D8B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903C-9A9C-49D8-9ADB-0C0EBEB7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017000" indent="-2034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424160" indent="-2034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830960" indent="-20340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830960" indent="-2034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830960" indent="-2034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29FE7-0232-4D9E-8789-9627E0FF3E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017000" indent="-2034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424160" indent="-2034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830960" indent="-20340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830960" indent="-2034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830960" indent="-2034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EC956-0088-4D11-BCBD-C6B32A713B6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eine Reise nach Deutschland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 Cole Web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2"/>
          <a:srcRect l="17646" t="21053" r="22550" b="59212"/>
          <a:stretch/>
        </p:blipFill>
        <p:spPr>
          <a:xfrm>
            <a:off x="152280" y="2438280"/>
            <a:ext cx="8839440" cy="27432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295280" y="533520"/>
            <a:ext cx="64771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lugticket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ch fahre mit dem flugzeug von Chicago nach Berli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Zugticket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ch fahre mit dem Zug von Berlin nach Munchen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2"/>
          <a:srcRect l="26329" t="46299" r="27779" b="40825"/>
          <a:stretch/>
        </p:blipFill>
        <p:spPr>
          <a:xfrm>
            <a:off x="228600" y="3733920"/>
            <a:ext cx="868680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iserout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rlin nach Munch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2"/>
          <a:stretch/>
        </p:blipFill>
        <p:spPr>
          <a:xfrm>
            <a:off x="5029200" y="1905120"/>
            <a:ext cx="30322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unchen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ch bin gegnuber dem Marienplatz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ch bin in der Frauenkirch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ch fahre aus der Bayerische Staatsoper Opera Hou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ch bin bei der Englischer Garte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ch bin vor der Asamkirch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ild von Munche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5" descr="munich-skyline-1"/>
          <p:cNvPicPr/>
          <p:nvPr/>
        </p:nvPicPr>
        <p:blipFill>
          <a:blip r:embed="rId2"/>
          <a:stretch/>
        </p:blipFill>
        <p:spPr>
          <a:xfrm>
            <a:off x="1676520" y="2057400"/>
            <a:ext cx="541008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as Hote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Content Placeholder 3" descr="Screen shot 2012-01-08 at 6.07.43 PM.png"/>
          <p:cNvPicPr/>
          <p:nvPr/>
        </p:nvPicPr>
        <p:blipFill>
          <a:blip r:embed="rId2"/>
          <a:srcRect l="0" t="-184339" r="0" b="-184339"/>
          <a:stretch/>
        </p:blipFill>
        <p:spPr>
          <a:xfrm>
            <a:off x="0" y="167652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as Hote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mein Hotel, haustiere sind erlaub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mein Hotel, es ist ein Hallenba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in Hotel ist auch kinderfreundlic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Koste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in Flugticket kostet $651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in Zugticket kostet $288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in Hotel kostet $196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ine Reise kostet $1,135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8T23:49:37Z</dcterms:created>
  <dc:creator>CUSD220</dc:creator>
  <dc:description/>
  <dc:language>en-US</dc:language>
  <cp:lastModifiedBy>Richard Weber</cp:lastModifiedBy>
  <dcterms:modified xsi:type="dcterms:W3CDTF">2012-01-09T01:05:31Z</dcterms:modified>
  <cp:revision>4</cp:revision>
  <dc:subject/>
  <dc:title>Slide 1</dc:title>
</cp:coreProperties>
</file>